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535A-A921-40C0-89B6-143A5084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DED8-93E3-43EA-8276-024EA2B4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8C9-C920-43E6-B43C-C0B275A5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A817-54AA-4080-AC0D-79426CEB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EBA1-BCD2-44DC-A6D4-455AF607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4B35-E93D-4694-86A1-136E47D2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081B-7944-4016-9A9E-9BE20418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74A4-3DA1-4FE1-9086-A549597D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E0E4-BD1B-4518-BF08-BC74052D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35C9-55B7-4752-AE85-19234624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4DF8-F947-47EB-BED8-B97D6380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417D-9DBD-4C84-A9F9-CE2988C1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29C6-A005-4C6D-9333-59A638A2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C805-718B-4624-9FEE-6479F4FA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BED0-EBBF-4492-B054-7A17E7F0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0145-1C0C-4F0A-93BD-A3965145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10FA-A96E-478C-B4C1-C96AFAE0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286D-806A-4D25-A95D-37FDD23D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F10-5D54-45F8-B3AB-B22AFE78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B50-2E3D-4E54-A683-D0553D8D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6E2-8812-4601-967D-D885C8CB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96C7-92F1-4947-A129-340F3679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D9DB-F772-4522-87AC-7BD74F3A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D77B-89F4-451D-8AD9-D48AB377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BB61-64FD-4DB7-806A-1924BE46492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0E70-D363-4FCC-9DD1-A26451E20BF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owerPoint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iews &amp; Vocabular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8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Grade Not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od Design Princip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eep it Simpl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good rule of thumb is no more than 5 (+/-2) points per slide.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ne idea per slid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od use of white spac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oo much on one slide can be over stimulating.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 of white space to separate items and make them more readabl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ke it big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eadlines biggest (36/32pt), sub-heading 2nd biggest (28/24pts), and text boxes smallest (20/16 pts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icture/sound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ictures need to relate to slide idea.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und must add to content of slide. Don’t have sound just to have soun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od Design Princip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lor combination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ome color combinations make slide hard to read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on’t use distracting colors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Use contrasting color ex. Dark background w/ light font color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sistency of item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nsistency of object makes presentation more professional looking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ame background, same headline style, same textbox style, etc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rammar/spelling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ofreading is important so the presenter appears knowledgeable about subject matter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 poorly put together presentation reflect on the presenters competenc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esenter also needs to know how to pronounce all words in presentation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st presentat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ke sure presentation works as you expected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You may find problem that don’t show up in normal view because they only appear in slide show view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76720" y="0"/>
            <a:ext cx="1752480" cy="380880"/>
          </a:xfrm>
          <a:prstGeom prst="leftArrow">
            <a:avLst>
              <a:gd name="adj1" fmla="val 50000"/>
              <a:gd name="adj2" fmla="val 115028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tle B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304920"/>
            <a:ext cx="1752480" cy="380880"/>
          </a:xfrm>
          <a:prstGeom prst="leftArrow">
            <a:avLst>
              <a:gd name="adj1" fmla="val 50000"/>
              <a:gd name="adj2" fmla="val 115028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u B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85800"/>
            <a:ext cx="4038480" cy="3049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685800"/>
            <a:ext cx="1981080" cy="380880"/>
          </a:xfrm>
          <a:prstGeom prst="leftArrow">
            <a:avLst>
              <a:gd name="adj1" fmla="val 50000"/>
              <a:gd name="adj2" fmla="val 130033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 Toolb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14400"/>
            <a:ext cx="4038480" cy="3049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914400"/>
            <a:ext cx="1981080" cy="380880"/>
          </a:xfrm>
          <a:prstGeom prst="leftArrow">
            <a:avLst>
              <a:gd name="adj1" fmla="val 50000"/>
              <a:gd name="adj2" fmla="val 130033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atting Toolb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76320" y="1447920"/>
            <a:ext cx="838440" cy="1447560"/>
          </a:xfrm>
          <a:prstGeom prst="upArrow">
            <a:avLst>
              <a:gd name="adj1" fmla="val 50000"/>
              <a:gd name="adj2" fmla="val 43162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line Ta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447920"/>
            <a:ext cx="838080" cy="1447560"/>
          </a:xfrm>
          <a:prstGeom prst="upArrow">
            <a:avLst>
              <a:gd name="adj1" fmla="val 50000"/>
              <a:gd name="adj2" fmla="val 43181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 Ta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1523880"/>
            <a:ext cx="533520" cy="4191120"/>
          </a:xfrm>
          <a:custGeom>
            <a:avLst/>
            <a:gdLst>
              <a:gd name="textAreaLeft" fmla="*/ 0 w 533520"/>
              <a:gd name="textAreaRight" fmla="*/ 192600 w 53352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200400"/>
            <a:ext cx="914400" cy="76212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3657600"/>
            <a:ext cx="1143000" cy="6858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5486400"/>
            <a:ext cx="1143000" cy="6858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76320" y="5867280"/>
            <a:ext cx="762120" cy="2286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5638680"/>
            <a:ext cx="1143000" cy="609840"/>
          </a:xfrm>
          <a:prstGeom prst="leftArrow">
            <a:avLst>
              <a:gd name="adj1" fmla="val 50000"/>
              <a:gd name="adj2" fmla="val 4685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ew B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5943600"/>
            <a:ext cx="1981080" cy="457200"/>
          </a:xfrm>
          <a:prstGeom prst="leftArrow">
            <a:avLst>
              <a:gd name="adj1" fmla="val 50000"/>
              <a:gd name="adj2" fmla="val 10832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awing Toolb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6248520"/>
            <a:ext cx="1981440" cy="4572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us B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6553080"/>
            <a:ext cx="1981080" cy="457200"/>
          </a:xfrm>
          <a:prstGeom prst="leftArrow">
            <a:avLst>
              <a:gd name="adj1" fmla="val 50000"/>
              <a:gd name="adj2" fmla="val 10832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sk B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1523880"/>
            <a:ext cx="1066680" cy="609840"/>
          </a:xfrm>
          <a:prstGeom prst="rightArrow">
            <a:avLst>
              <a:gd name="adj1" fmla="val 50000"/>
              <a:gd name="adj2" fmla="val 43728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oll B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9514400">
            <a:off x="8381880" y="0"/>
            <a:ext cx="685800" cy="1143000"/>
          </a:xfrm>
          <a:prstGeom prst="downArrow">
            <a:avLst>
              <a:gd name="adj1" fmla="val 50000"/>
              <a:gd name="adj2" fmla="val 41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lapsib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2133720"/>
            <a:ext cx="4343400" cy="6858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2057400"/>
            <a:ext cx="152280" cy="1522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057400"/>
            <a:ext cx="152280" cy="1522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48720" y="2057400"/>
            <a:ext cx="152280" cy="1522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743200"/>
            <a:ext cx="152280" cy="1522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2743200"/>
            <a:ext cx="152280" cy="1522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2743200"/>
            <a:ext cx="152280" cy="1522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16765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990720"/>
            <a:ext cx="685800" cy="990360"/>
          </a:xfrm>
          <a:prstGeom prst="downArrow">
            <a:avLst>
              <a:gd name="adj1" fmla="val 50000"/>
              <a:gd name="adj2" fmla="val 36102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1295280"/>
            <a:ext cx="1066680" cy="914400"/>
          </a:xfrm>
          <a:prstGeom prst="rightArrow">
            <a:avLst>
              <a:gd name="adj1" fmla="val 50000"/>
              <a:gd name="adj2" fmla="val 29163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ta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360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76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rmal View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main editing view that you will use to write and design your presentation.  Includes 3 area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278000" indent="-3636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line pa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78000" indent="-3636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ide pa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78000" indent="-3636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es pa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68007" b="35789"/>
          <a:stretch/>
        </p:blipFill>
        <p:spPr>
          <a:xfrm>
            <a:off x="3886200" y="738360"/>
            <a:ext cx="1600200" cy="1090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0" t="0" r="68007" b="35789"/>
          <a:stretch/>
        </p:blipFill>
        <p:spPr>
          <a:xfrm>
            <a:off x="5257800" y="3809880"/>
            <a:ext cx="3048120" cy="2078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19720" y="4419720"/>
            <a:ext cx="1523880" cy="914400"/>
          </a:xfrm>
          <a:prstGeom prst="rightArrow">
            <a:avLst>
              <a:gd name="adj1" fmla="val 50000"/>
              <a:gd name="adj2" fmla="val 41663"/>
            </a:avLst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4343400"/>
            <a:ext cx="1371600" cy="762120"/>
          </a:xfrm>
          <a:prstGeom prst="leftArrow">
            <a:avLst>
              <a:gd name="adj1" fmla="val 50000"/>
              <a:gd name="adj2" fmla="val 44993"/>
            </a:avLst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8562200">
            <a:off x="6324480" y="5333760"/>
            <a:ext cx="9144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View Pa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04760" indent="-5475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utline Pan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contains the outline and slide tabs.  Drag the splitter bar to narrow and widen pa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line Tab: outline of your slide tex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ide Tab: displays thumbnails of your slid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004760" indent="-5475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lide Pan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isplays large view of your current slid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004760" indent="-5475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tes Pan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isplays any notes for your current slid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2502" r="85939" b="9376"/>
          <a:stretch/>
        </p:blipFill>
        <p:spPr>
          <a:xfrm>
            <a:off x="103320" y="2209680"/>
            <a:ext cx="1116000" cy="4648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10938" t="7294" r="21876" b="13540"/>
          <a:stretch/>
        </p:blipFill>
        <p:spPr>
          <a:xfrm>
            <a:off x="5334120" y="76320"/>
            <a:ext cx="3733560" cy="3300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0" t="76045" r="21876" b="6251"/>
          <a:stretch/>
        </p:blipFill>
        <p:spPr>
          <a:xfrm>
            <a:off x="2895480" y="5872320"/>
            <a:ext cx="6248520" cy="1062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lide Sorter 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lide Sorter View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isplays slides in thumbnail form.  After your presentation is created, use this view to reorder, add, or delete slides and preview your transitions, animation effects, motions clips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lide Tab will also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t you do many of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same task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31031" t="0" r="37981" b="41982"/>
          <a:stretch/>
        </p:blipFill>
        <p:spPr>
          <a:xfrm>
            <a:off x="4876920" y="858960"/>
            <a:ext cx="1523880" cy="969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0" t="0" r="20255" b="35345"/>
          <a:stretch/>
        </p:blipFill>
        <p:spPr>
          <a:xfrm>
            <a:off x="5257800" y="4494240"/>
            <a:ext cx="3886200" cy="2363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lide Show 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lide Show View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kes up the full computer screen like an actual slide show presentation.  You can see how your graphics, timings, movies, animated elements, and transitions 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ation will start at current sli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s F5 will start slideshow from begin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60162" t="0" r="9768" b="38005"/>
          <a:stretch/>
        </p:blipFill>
        <p:spPr>
          <a:xfrm>
            <a:off x="4724280" y="890640"/>
            <a:ext cx="1447920" cy="1014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p Art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lso called graphics, pictures that can be added to enhance presenta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otion Clip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raphics with move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ord Art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re-formatted stylized text.  These words will not be spell checked because the computer treats them as a graphi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ext Box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ox that allowed for typing that can be spell check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nt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typing.  The style, size, and color may be chang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31057" t="90368" r="67190" b="7294"/>
          <a:stretch/>
        </p:blipFill>
        <p:spPr>
          <a:xfrm>
            <a:off x="0" y="2362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25782" t="89585" r="71095" b="6251"/>
          <a:stretch/>
        </p:blipFill>
        <p:spPr>
          <a:xfrm>
            <a:off x="0" y="3505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24220" t="89585" r="74222" b="7294"/>
          <a:stretch/>
        </p:blipFill>
        <p:spPr>
          <a:xfrm>
            <a:off x="0" y="4419720"/>
            <a:ext cx="507960" cy="761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-1558" t="9376" r="73439" b="86465"/>
          <a:stretch/>
        </p:blipFill>
        <p:spPr>
          <a:xfrm>
            <a:off x="-304920" y="5943600"/>
            <a:ext cx="5029200" cy="558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rcRect l="44535" t="88547" r="51563" b="7294"/>
          <a:stretch/>
        </p:blipFill>
        <p:spPr>
          <a:xfrm>
            <a:off x="0" y="5334120"/>
            <a:ext cx="533520" cy="426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48320" y="3808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items like text boxes, graphics, motion clips, word art, sounds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ransi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the way it looks when moving slide to slid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ide Show, Slide Tran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ustom Animation (Build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the way objects appear on the slide.  A headline should not be part on an animation because it should stay on the slide at all tim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ide Show, Custom Ani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pboar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place where the cut or copied item is plac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py &amp; Pas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make a duplicate of an object. The original item stays and a second can be placed elsewhe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py CTRL + C; Paste CTRL + 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ut &amp; Pas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move an object.  The original item is gone and moved to a place elsewhe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ut CTRL + X; Paste CTRL + 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22681" t="6251" r="74905" b="89816"/>
          <a:stretch/>
        </p:blipFill>
        <p:spPr>
          <a:xfrm>
            <a:off x="0" y="5181480"/>
            <a:ext cx="685800" cy="838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25368" t="6251" r="70339" b="89816"/>
          <a:stretch/>
        </p:blipFill>
        <p:spPr>
          <a:xfrm>
            <a:off x="0" y="3505320"/>
            <a:ext cx="1219320" cy="838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rcRect l="27247" t="6251" r="70339" b="89816"/>
          <a:stretch/>
        </p:blipFill>
        <p:spPr>
          <a:xfrm>
            <a:off x="685800" y="5181480"/>
            <a:ext cx="685800" cy="838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Good Design Principl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8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Grade Not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5:26:37Z</dcterms:created>
  <dc:creator>SWDL</dc:creator>
  <dc:description/>
  <dc:language>en-US</dc:language>
  <cp:lastModifiedBy>SWDL</cp:lastModifiedBy>
  <dcterms:modified xsi:type="dcterms:W3CDTF">2010-02-12T17:26:44Z</dcterms:modified>
  <cp:revision>19</cp:revision>
  <dc:subject/>
  <dc:title>PowerPoint Views &amp; Vocabulary</dc:title>
</cp:coreProperties>
</file>